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81F4-8B08-4F02-B1DE-FDC2200AF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3374-25BD-4E50-AB20-A62DF2585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661C-2D0D-4D0B-B611-85E1AB534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0D8C-6FD2-4908-B0C7-B032085C4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09F44-5262-45AA-AB1D-43F615636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87E40-AC00-419E-AC86-8DDFA0D6F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8CDFC-8E13-4FC2-85B5-1B22A4646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17D74-9824-4AEA-BC65-85272B95E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181D7-22EA-4096-9F71-5281EC660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1EA6E-20DE-49B6-8034-A6F09C39E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562CA-9375-4A62-B921-95E4D94A1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D008-1A1C-4608-B320-E67BB6AC3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8BECA-36DE-4245-BA7C-6035D159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CB492-3829-4053-97F1-2973B89DD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4E1EB-2668-4CCF-8EC3-4916CA747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098BA-913B-40CA-9BFB-C938B570B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E6BB5-04CA-43F8-A113-71BB4002E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440C-6090-4937-9CF0-3057D6F2D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2693-41C4-436F-84D2-FF76B103E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5F46-535E-478E-A0C5-1881E62D8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7842-BC67-494F-A2DA-B439E9FD6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9F6E-ADFF-42A6-AAB2-38099E2B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AF29-654C-46DA-AE8E-ADB831C6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6BB9-F688-4AFE-AFB9-2F5B80D94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39881-9A5A-4DFD-B065-C455DBBEF8FD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0CF2C-43EC-4B3A-BA23-25C5F874CB29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REGLAMENTO DE CESTOBO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700360" y="2297160"/>
            <a:ext cx="39592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4. Reglas del juego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4.4. </a:t>
            </a:r>
            <a:r>
              <a:rPr b="0" lang="es-ES" sz="2100" spc="-1" strike="noStrike" u="sng">
                <a:solidFill>
                  <a:srgbClr val="000000"/>
                </a:solidFill>
                <a:uFillTx/>
                <a:latin typeface="Arial"/>
              </a:rPr>
              <a:t>Tiempo de juego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Durante el partido el reloj se detendrá en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a) Falt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b) Tiempo muerto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El reloj se pondrá en marcha en el momento en que el jugador/a se desprende de la pelot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Tiempo muerto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Se puede solicitar 1 tiempo muerto por cuarto y equip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El tiempo muerto será de 60 sg. como máxim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El minuto se otorgará solamente en pelota muert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El entrenador deberá pedir personalmente el minuto en la mesa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4. Reglas del juego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4.5. 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Iniciación del juego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 realizará un salto en el centro del campo entre los jugadores que ocupan la posición 3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4.6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. Pelota fuera de la cancha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uando el jugador/a en posesión de la misma tome contacto con el terreno fuera del campo de juego con alguna parte de su cuerp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as líneas pertenecen al campo de jueg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 puede jugar la pelota que está en el aire de la cancha, siempre y cuando el jugador/a tenga los pies dentro del campo de jueg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a pelota estará fuera de la cancha, cuando un jugador/a la impulsa y sobrepasa los límites del campo de jueg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Un jugador/a del equipo adversario de la que tocó la pelota en última instancia la pone nuevamente en juego desde el lugar por donde salió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4. Reglas del juego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.7.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Jugar la pelot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 aplican las reglas de baloncest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.8.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Formas legales de defende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 única defensa admitida será la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dividu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e manera que los jugadores se emparejaran de la siguiente form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ugador 1 defiende al 5 del equipo contrari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ugador 2 defiende al 4 del equipo contrari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ugador 3 defiende al 3 del equipo contrari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4. Reglas del juego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4.9. 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Faltas personal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alta cometida en acción de lanzamiento al aro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n tiro desde la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línea de falta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y realizado por el jugador al que se le hizo la falta, vale un punto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alta cometida en acción de pasar la pelota o a un jugador/a que no está en posesión de la pelota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 reanudará con un pase desde el lugar donde se cometió la falt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as faltas se dividirán en dos categoría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- Faltas comunes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odas aquellas que se cometan durante el juego con o sin intención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- Faltas descalificantes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odas las que pongan en peligro la integridad física del jugador/a o se incurra en conducta antideportiv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áximo de 5 faltas, y abandonará el campo de juego pudiendo ser reemplazad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4. Reglas del juego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.10.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Puntuació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do lanzamiento de cancha estando en juego la pelota, valdrá un punt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 tiro desde línea de falta valdrá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n punt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 tiro desde línea de doble falta valdrá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os punto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El jueg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as ideas para este juego nacen de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eporte Pelota al Cesto argentin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el Korfball holandé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el Netball inglés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Un equipo intenta conseguir la pelota y a través de pases llegar al aro del adversario y con un lanzamiento convertir esa jugad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l juego necesita de mucho movimiento y está pensado como un deporte de conjunto, lo que permitirá reducir al máximo las individualidad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l equipo que más puntos consiga durante el transcurso del juego será el ganador. En caso de finalizar un partido con resultado empatado, éste deberá definirse en un tiempo suplementario y de subsistir el empate se definirá por penal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as sencillas reglas buscan una mejora de la condición física, una buena preparación técnica y sobre todo un concepto deportivo limpio y una forma amena de divertirs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1. Materia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.1. </a:t>
            </a: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Dimensión y división del campo de juego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a cancha será de 28 metros de largo por 16 metros de ancho. Se admitirá un mínimo de 26  * 14 metro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 marcará con líneas bien visibl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- La cancha estará dividida en dos zonas iguales, separadas por una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ínea central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n la cual dibujaremos un círculo de 1,80 mts. de radio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- A 5’80 metros de la línea final se marcar un círculo de 1,80 mts. de radio, en ambas zonas del campo de juego, al cual se le dibujará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l diámetro paralelo a la línea de fondo.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ste círculo se considera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zona prohibida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y por lo tanto no se puede jugar la pelota desde dentro del mismo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7’85 metros de la línea final y a 2’10 mts. del soporte del aro, se marcará una línea visible equidistante de las líneas laterales, que se llamará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ínea de falta.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(Coincide con la línea de 6’25 de la pista de baloncesto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- A 11’30 metros de la línea final y a 5’50 mts. del soporte del aro, se  marcará una línea visible equidistante de las líneas laterales, que se llamará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ínea de doble falta.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(Coincide con el círculo central en el campo de 26 * 14 mts.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329080" y="1484280"/>
            <a:ext cx="286236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1. Materia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1.2. </a:t>
            </a:r>
            <a:r>
              <a:rPr b="0" lang="es-ES" sz="2100" spc="-1" strike="noStrike" u="sng">
                <a:solidFill>
                  <a:srgbClr val="000000"/>
                </a:solidFill>
                <a:uFillTx/>
                <a:latin typeface="Arial"/>
              </a:rPr>
              <a:t>Posición de los aros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Se colocarán en el interior del campo de juego a 5,80 Mts. de la línea final y equidistante de las líneas lateral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1.3. </a:t>
            </a:r>
            <a:r>
              <a:rPr b="0" lang="es-ES" sz="2100" spc="-1" strike="noStrike" u="sng">
                <a:solidFill>
                  <a:srgbClr val="000000"/>
                </a:solidFill>
                <a:uFillTx/>
                <a:latin typeface="Arial"/>
              </a:rPr>
              <a:t>Altura y tamaño de los aros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Los aros tendrán una altura de 3’05 metros y el cesto propiamente dicho un diámetro de 0’37 metr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Será de un material estable y resistent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Se recomienda que tenga una red para apreciar el paso de la pelot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Para la categoría Mini, el aro tendrá una altura de 2’60 metr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1.4</a:t>
            </a:r>
            <a:r>
              <a:rPr b="0" lang="es-ES" sz="2100" spc="-1" strike="noStrike" u="sng">
                <a:solidFill>
                  <a:srgbClr val="000000"/>
                </a:solidFill>
                <a:uFillTx/>
                <a:latin typeface="Arial"/>
              </a:rPr>
              <a:t>. La pelota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La pelota que se utilizará será la reglamentaria de voley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2. Autoridad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.1.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Juec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s partidos serán auto-arbitrados de manera que impere el “juego limpio”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s jugadores se comprometen a aceptar las reglas y hacer todo lo posible por cumplirl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.2.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Delegados de mes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brá dos delegado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o del equipo local, encargado del manejo del reloj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tro del equipo visitante, responsable del manejo de la planill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3. Equipo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1.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Cantidad de jugador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 jugadores/a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 serán titulares y 5 suplent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8 jugadores/as como mínimo para iniciar el partid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a vez comenzado el partido, este continuará mientras queden como mínimo 3 jugadores/as en el equipo, obligatoriamente 1 en cada zon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4. Reglas del juego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4.1. </a:t>
            </a:r>
            <a:r>
              <a:rPr b="0" lang="en-US" sz="1700" spc="-1" strike="noStrike" u="sng">
                <a:solidFill>
                  <a:srgbClr val="000000"/>
                </a:solidFill>
                <a:uFillTx/>
                <a:latin typeface="Arial"/>
              </a:rPr>
              <a:t>Distribución de las jugadores/as en las zona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os jugadores se colocarán en zonas de juego que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irán rotando cada vez que su equipo consiga un punto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7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 jugadores/as en zona defensiva (1 y 2). No podrán participar en ataqu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7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 jugador/a en la zona media (3). Podrán participar tanto en ataque como en defensa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7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 jugadores/as en zonas de ataque (4 y 5). No podrán participar en defensa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ada equipo tendrá en su zona de ataque y defensa, un máximo 3 jugadores/a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7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a rotación tras conseguir punto irá pasando a la zona superior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 en algún momento algún equipo tuviera más de 3 jugadores en una de las mitades del campo,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e considerará falta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n ese momento se para el juego y el equipo que no cometió la infracción decide si lanza una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falta o doble falta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l lanzador será siempre el jugador en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posición 3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mo mínimo 1 jugador/a por zona, para no suspender el partido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4.2. </a:t>
            </a:r>
            <a:r>
              <a:rPr b="0" lang="en-US" sz="1700" spc="-1" strike="noStrike" u="sng">
                <a:solidFill>
                  <a:srgbClr val="000000"/>
                </a:solidFill>
                <a:uFillTx/>
                <a:latin typeface="Arial"/>
              </a:rPr>
              <a:t>Cambios de jugadores/a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n límites y en cualquier momento del partido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4. Reglas del juego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4.3.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Zonas de cambios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ntre el banquillo de su equipo y la mesa de anotador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l cambio queda habilitado cuando el jugador/a que sale apoya los dos pies fuera de la canch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n caso contrario se sancionará al equipo infractor con falt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l equipo que no cometió la infracción decide si lanza una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falta o doble falta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l lanzador será el jugador que ocupe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posición 3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l banquillo del equipo se encontrará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iempre en la zona defensiva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de éste. Cambiándose al comienzo del tercer cuart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4. Reglas del juego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4.4.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Tiempo de juego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uarenta minutos (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40’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, dividido en cuatro períodos de 10 minut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abrá un descanso entre tiempo y tiempo de 3 minut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i el partido termina empatado, se desempata de la siguiente manera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Se disputa un tiempo de 5 minu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 De continuar el empate al finalizar el tiempo suplementario, se lanzarán tiros libres de la siguiente form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) Lugar elegido: Línea de falt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) Un lanzamiento por jugador alternándose los componentes de cada equipo hasta que se produzca el desempat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, efectúa un sorteo y quien lo gane, tiene derecho a elegir el aro donde lanzar o si comienza a tirar en segundo términ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7T11:12:54Z</dcterms:created>
  <dc:creator>Paquito Luque</dc:creator>
  <dc:description/>
  <dc:language>en-US</dc:language>
  <cp:lastModifiedBy>Paquito Luque</cp:lastModifiedBy>
  <dcterms:modified xsi:type="dcterms:W3CDTF">2004-04-17T12:08:05Z</dcterms:modified>
  <cp:revision>16</cp:revision>
  <dc:subject/>
  <dc:title>REGLAMENTO DE CESTOBOL</dc:title>
</cp:coreProperties>
</file>